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C10-9FB5-4019-8CE7-669B8950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6B0F-AF34-46E6-9E62-59FF914E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BFE-B612-45EE-98B1-63E3B3F7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FB3-EA43-4FBC-9E14-0D9E2A1C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E23-97AE-4690-A159-1C8F17C3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7A73-EBFF-497E-A517-1EB9F4DF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50E8-9B5F-42C8-A846-2FAB8AFA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4F00-75B8-4C7F-AC55-5036BDBA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B20-DD68-4565-B35A-1EF9B301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8FA5-0A5C-454B-91FD-F8D08EF5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630D-57B8-4C54-9785-E045123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58C-4877-4D87-AE94-4E99530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8CBD-A7D0-43AB-8D80-33D169D5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EAE3-31F7-47A7-9262-3513B60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012E-8917-4278-9FF2-0ABF4D74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5B3B-D66B-4E96-B107-0D060EE2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3B64-47E4-4E91-99FE-714C7C66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03E-C693-44B1-8741-6E357C7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903-DAA6-4D36-8094-A9D4C2B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ABA-4DCD-4961-8E62-A359E2E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D91-9C6B-4230-83B5-334CDC7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4E8-7B6D-45BD-972F-C592AFF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347-24D4-4AA3-A36E-D9B7886A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FE90-88A6-4FE4-9F13-C75CE115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72D4-37E7-48B7-85FE-0BC5A2D644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C06B-4656-46BB-8B6D-A7EEBF920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image" Target="../media/image8.pct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15200" y="2362320"/>
            <a:ext cx="1523880" cy="2387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43200" y="2209680"/>
            <a:ext cx="259092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9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uther: C.S. Lewi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71600" y="1143000"/>
            <a:ext cx="7010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The Chronicles of Narnia The Horse And His Bo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38080" y="3429000"/>
            <a:ext cx="1625760" cy="2031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733920" y="3886200"/>
            <a:ext cx="17143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By: Luca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sta- A boy who was a prince but was took at a few weeks old and was being treated like a sl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e- A war horse from Na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win- Another war horse from Na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avis Tarkheen- A noble women who runs away because they want her to marry an old evil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e Rabadash- A man who wants to marry queen Susan or else he will go to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hb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82" dir="7475537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e Rabadash goes to war against Archland because queen Susan refuses to marry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Mai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sta, Bree, Aravis, and Hwin are running away to Narnia to help queen Susan win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Main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22040" y="1981080"/>
            <a:ext cx="7435800" cy="2286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ttle against Prince Rabadash and Narnia helped win the war with Arch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’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you should not battle because you are mad about some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640080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S. Lewis wrote 7 books about Na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Magician’s Neph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Lion, The Witch, and the Wardro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Horse and His 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ince Casp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Voyage of the Dawn Tr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liver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Last Ba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1333440" cy="2031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67480" y="0"/>
            <a:ext cx="1333800" cy="2031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467480" y="2057400"/>
            <a:ext cx="124488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467480" y="4114800"/>
            <a:ext cx="132084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295280" y="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6095880" y="4114800"/>
            <a:ext cx="1371600" cy="2031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257480" cy="203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tertainista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aeedbookbank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nryzecher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awards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vangelicalbibl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sh-screen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drive.library.bilkent.edu.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sness.wordpres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singold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3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18:42Z</dcterms:created>
  <dc:creator>D83  User</dc:creator>
  <dc:description/>
  <dc:language>en-US</dc:language>
  <cp:lastModifiedBy>D83  User</cp:lastModifiedBy>
  <dcterms:modified xsi:type="dcterms:W3CDTF">2010-12-09T14:59:07Z</dcterms:modified>
  <cp:revision>18</cp:revision>
  <dc:subject/>
  <dc:title>PowerPoint Presentation</dc:title>
</cp:coreProperties>
</file>